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53B-7EB4-4BF1-81AE-C02A22EC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8A1-EF40-4B41-9BB6-865A054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407-1FB9-41D4-BDD6-E4DE9B6B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2CA-D3F8-45F9-B2F2-7564EF62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075-6B61-441B-A3A9-FCAC3908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8DC-3B1B-40F3-9B65-4EE2EBF1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86B-F96C-4D65-8A90-CBF54224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C3A-A1DB-4311-8963-61CD665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749-4C3C-49CF-86A3-C1378A27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981-B1D2-49EA-B590-0011709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34E-F54E-40E1-BDFF-395762A8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634-8697-49E4-84AB-E6AB9687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E56-00CA-4F2A-9150-6C3053B1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4875120" y="1446120"/>
            <a:ext cx="709560" cy="7095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5a3</cp:lastModifiedBy>
  <dcterms:modified xsi:type="dcterms:W3CDTF">2012-06-19T11:27:40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